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95B-3CF2-49D5-B9FF-E36380A1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F18-0A01-4DE1-9EF8-A4CF89CE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1D5-E908-48D7-92E1-83A239DC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69D-28A8-4150-9077-6C2A80B1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6642-47A0-42E1-8BD1-23028A5C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049D-6803-4211-92FF-FF957A47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0D8E-486E-4591-82F0-4A8B0795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1DB0-B2C7-4935-B376-3DFBB02F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F56F-AD2D-4FED-A941-02A07FE9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990B-FAC7-4CE2-9790-40B0165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8050-FF16-4775-B180-779FE09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780-FA4E-4D14-97AC-1FDC2707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43E6-FB56-4E7F-9BC1-E7E2F0FE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2230-E85A-4D2C-91CC-7C3DE48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6448-3A7C-42E1-BA5E-A59B6547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396-EBF6-4326-9244-95239E0A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EA49-504A-48AD-A818-FFD35527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A02-0A4D-4467-A167-5E15B063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48F-E79B-4218-8022-EF34F166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A11-0AEF-4F17-A94F-62E4B29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ABC-709C-4035-B931-19CE2B2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BEB-6CDF-4376-9483-AA0961D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593-7331-4C9A-93C9-96408D8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2078-7054-46CB-BF8A-7B4AE2D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3570-EEE7-4D98-BA35-37DE55E36A7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1209-AE3B-40F3-843E-977B167C09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3CC8-A46D-446F-8732-2C5C7999965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4516560" cy="398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0" t="-5648" r="0" b="31755"/>
          <a:stretch/>
        </p:blipFill>
        <p:spPr>
          <a:xfrm>
            <a:off x="4484520" y="4208400"/>
            <a:ext cx="462456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rcRect l="0" t="9135" r="0" b="0"/>
          <a:stretch/>
        </p:blipFill>
        <p:spPr>
          <a:xfrm>
            <a:off x="4516560" y="0"/>
            <a:ext cx="4592520" cy="492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4"/>
          <a:srcRect l="0" t="0" r="265" b="4626"/>
          <a:stretch/>
        </p:blipFill>
        <p:spPr>
          <a:xfrm>
            <a:off x="19080" y="3851280"/>
            <a:ext cx="44654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0732-40CF-4B99-B341-85A15EE73AE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4516560" cy="398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rcRect l="0" t="-5648" r="0" b="31755"/>
          <a:stretch/>
        </p:blipFill>
        <p:spPr>
          <a:xfrm>
            <a:off x="4484520" y="4208400"/>
            <a:ext cx="4624560" cy="262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rcRect l="0" t="9135" r="0" b="0"/>
          <a:stretch/>
        </p:blipFill>
        <p:spPr>
          <a:xfrm>
            <a:off x="4516560" y="0"/>
            <a:ext cx="4592520" cy="492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rcRect l="0" t="0" r="265" b="4626"/>
          <a:stretch/>
        </p:blipFill>
        <p:spPr>
          <a:xfrm>
            <a:off x="0" y="3797280"/>
            <a:ext cx="4545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изучения живого объек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представ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а дл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нужно охран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E868-C3CE-4C52-A281-EFBB138202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146-2C93-405A-908A-0F28F0EF8E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940360" y="4156200"/>
            <a:ext cx="1109880" cy="7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7812000" y="2133720"/>
            <a:ext cx="973080" cy="745920"/>
          </a:xfrm>
          <a:prstGeom prst="rect">
            <a:avLst/>
          </a:prstGeom>
          <a:ln w="0">
            <a:noFill/>
          </a:ln>
        </p:spPr>
      </p:pic>
      <p:sp>
        <p:nvSpPr>
          <p:cNvPr id="140" name="Кольцо 5"/>
          <p:cNvSpPr/>
          <p:nvPr/>
        </p:nvSpPr>
        <p:spPr>
          <a:xfrm>
            <a:off x="4140360" y="4581360"/>
            <a:ext cx="2447640" cy="1440000"/>
          </a:xfrm>
          <a:custGeom>
            <a:avLst/>
            <a:gdLst/>
            <a:ahLst/>
            <a:rect l="l" t="t" r="r" b="b"/>
            <a:pathLst>
              <a:path w="2447925" h="1439863">
                <a:moveTo>
                  <a:pt x="0" y="719932"/>
                </a:moveTo>
                <a:cubicBezTo>
                  <a:pt x="0" y="322325"/>
                  <a:pt x="547987" y="0"/>
                  <a:pt x="1223963" y="0"/>
                </a:cubicBezTo>
                <a:cubicBezTo>
                  <a:pt x="1899939" y="0"/>
                  <a:pt x="2447926" y="322325"/>
                  <a:pt x="2447926" y="719932"/>
                </a:cubicBezTo>
                <a:cubicBezTo>
                  <a:pt x="2447926" y="1117539"/>
                  <a:pt x="1899939" y="1439864"/>
                  <a:pt x="1223963" y="1439864"/>
                </a:cubicBezTo>
                <a:cubicBezTo>
                  <a:pt x="547987" y="1439864"/>
                  <a:pt x="0" y="1117539"/>
                  <a:pt x="0" y="719932"/>
                </a:cubicBezTo>
                <a:close/>
                <a:moveTo>
                  <a:pt x="359966" y="719932"/>
                </a:moveTo>
                <a:cubicBezTo>
                  <a:pt x="359966" y="918736"/>
                  <a:pt x="746791" y="1079898"/>
                  <a:pt x="1223963" y="1079898"/>
                </a:cubicBezTo>
                <a:cubicBezTo>
                  <a:pt x="1701135" y="1079898"/>
                  <a:pt x="2087960" y="918736"/>
                  <a:pt x="2087960" y="719932"/>
                </a:cubicBezTo>
                <a:cubicBezTo>
                  <a:pt x="2087960" y="521128"/>
                  <a:pt x="1701135" y="359966"/>
                  <a:pt x="1223963" y="359966"/>
                </a:cubicBezTo>
                <a:cubicBezTo>
                  <a:pt x="746791" y="359966"/>
                  <a:pt x="359966" y="521128"/>
                  <a:pt x="359966" y="719932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bc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5229360" y="5275440"/>
            <a:ext cx="711000" cy="62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5796000" y="5119560"/>
            <a:ext cx="969840" cy="74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6"/>
          <a:stretch/>
        </p:blipFill>
        <p:spPr>
          <a:xfrm>
            <a:off x="5940360" y="1557360"/>
            <a:ext cx="97020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7"/>
          <a:stretch/>
        </p:blipFill>
        <p:spPr>
          <a:xfrm>
            <a:off x="4276800" y="5151600"/>
            <a:ext cx="1109520" cy="78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8"/>
          <a:stretch/>
        </p:blipFill>
        <p:spPr>
          <a:xfrm>
            <a:off x="6783480" y="5005440"/>
            <a:ext cx="828720" cy="97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4951440" y="4365720"/>
            <a:ext cx="825480" cy="97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0"/>
          <a:stretch/>
        </p:blipFill>
        <p:spPr>
          <a:xfrm>
            <a:off x="68400" y="195120"/>
            <a:ext cx="48830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067640" y="546840"/>
            <a:ext cx="3168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лядь живет в Волге в чистой воде до 30 лет. На вылов её требуется много времени, рыба осторожна. Стерляд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есена в Красную книгу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газинах ее мног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вежем, замороженном виде и консервы? Почему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FD1-A998-41E6-BCB0-2374C5CDDA2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0600" y="128520"/>
            <a:ext cx="3187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187280" y="1915920"/>
            <a:ext cx="73440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ять природу – значит охранять Родину»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Пришв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09A-2AC7-4321-A717-6541AF03CE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с.90-93 прочитать, ответить на вопросы с.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полнить задания на платформе Учи.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* Подготовить сообщение о животном или растении из Красной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1DA7-DA74-4025-B214-829065DAEEC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2DF2-E826-46A3-858A-C9A003DD9FF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309680" y="2492280"/>
            <a:ext cx="6718320" cy="4156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268360" y="189000"/>
            <a:ext cx="5472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ван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1476360" y="1628640"/>
            <a:ext cx="6121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расная книг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5" descr="photo_2017-03-13_19-17-25"/>
          <p:cNvPicPr/>
          <p:nvPr/>
        </p:nvPicPr>
        <p:blipFill>
          <a:blip r:embed="rId1"/>
          <a:stretch/>
        </p:blipFill>
        <p:spPr>
          <a:xfrm>
            <a:off x="7164360" y="5213520"/>
            <a:ext cx="179244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hoto_2017-03-13_19-17-25"/>
          <p:cNvPicPr/>
          <p:nvPr/>
        </p:nvPicPr>
        <p:blipFill>
          <a:blip r:embed="rId2"/>
          <a:stretch/>
        </p:blipFill>
        <p:spPr>
          <a:xfrm>
            <a:off x="7164360" y="5213520"/>
            <a:ext cx="17924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D1D1-6801-438D-A5EF-E0C531642CB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60440" y="692280"/>
            <a:ext cx="63072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8132-BA16-4A38-9445-133400313FC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215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55FF-68A8-45F2-BB9C-88F3BAC4C35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13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31A4-D64F-4765-B554-21543D86947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374840" y="692280"/>
            <a:ext cx="63882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F1CD-27AF-46DF-9F39-FE0D9B33E04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20920" y="692280"/>
            <a:ext cx="67197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E02-355A-4C32-A449-D4B3C5D71DE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49200" y="549360"/>
            <a:ext cx="6556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682C-9050-48BF-83DC-578ADFD9E9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32000" y="2281320"/>
            <a:ext cx="2697480" cy="248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3795840" y="3038400"/>
            <a:ext cx="1414440" cy="974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3228840" y="111240"/>
            <a:ext cx="2563920" cy="227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5219640" y="1236600"/>
            <a:ext cx="2627280" cy="2289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5"/>
          <a:stretch/>
        </p:blipFill>
        <p:spPr>
          <a:xfrm>
            <a:off x="5219640" y="3525840"/>
            <a:ext cx="2627280" cy="224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6"/>
          <a:stretch/>
        </p:blipFill>
        <p:spPr>
          <a:xfrm>
            <a:off x="3228840" y="4692600"/>
            <a:ext cx="2563920" cy="204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7"/>
          <a:stretch/>
        </p:blipFill>
        <p:spPr>
          <a:xfrm>
            <a:off x="1220760" y="3525840"/>
            <a:ext cx="2595600" cy="22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8"/>
          <a:stretch/>
        </p:blipFill>
        <p:spPr>
          <a:xfrm>
            <a:off x="1204920" y="1236600"/>
            <a:ext cx="2590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5:35:24Z</dcterms:created>
  <dc:creator>Вжик</dc:creator>
  <dc:description/>
  <dc:language>en-US</dc:language>
  <cp:lastModifiedBy>User</cp:lastModifiedBy>
  <dcterms:modified xsi:type="dcterms:W3CDTF">2025-03-24T16:47:18Z</dcterms:modified>
  <cp:revision>58</cp:revision>
  <dc:subject/>
  <dc:title>Красная книга</dc:title>
</cp:coreProperties>
</file>